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CB44-4F96-43A2-884D-3A154E6A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AC4-B077-49DE-BF40-56CA50F3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50A8-2164-494B-B3E1-4184BF90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581-CCBF-4173-95FE-5B5C4B01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B21-347A-48A5-B136-A10885E0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724-7989-444E-84B5-FE1B1A3E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5D3E-6AD3-42ED-9EBB-FB05C377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BA27-6A3A-4AD3-9CDF-E73E3984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805-634D-4B97-9D3C-5C4049AF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835-7B48-4F4E-9031-A5AC6918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207-BA53-4A3B-A841-B9D8BA72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C8F-DFA8-4B25-AEE1-9E212734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3663-50B0-4A57-8EFB-896D1BF25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scantron sheet and a p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questions 18, 19, 20 &amp;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  Students will draw angles with given meas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 to drawing an ang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a 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the center of the protractor at the starting end of the 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the measurement along the top of the protr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up the bottom edge of the measurement mark and the end of the r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a line connecting the two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s to drawing a triang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 a segment the given leng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 the center of the protractor at one end of the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the angle measurement along the top of the protra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up the bottom edge of the measurement mark and the end of the r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 a line connecting the two poi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 the center of the protractor at the opposite end of the line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 steps 3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he two rays intersect is your third 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your protractor to be sure your angles have a sum of 18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9:40:55Z</dcterms:created>
  <dc:creator>ccps</dc:creator>
  <dc:description/>
  <dc:language>en-US</dc:language>
  <cp:lastModifiedBy>ccps</cp:lastModifiedBy>
  <dcterms:modified xsi:type="dcterms:W3CDTF">2010-02-17T18:56:38Z</dcterms:modified>
  <cp:revision>5</cp:revision>
  <dc:subject/>
  <dc:title>Objective:  Students will draw angles with given measures.</dc:title>
</cp:coreProperties>
</file>